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C0F-ED0C-4382-AC22-7D52D9CB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BB4-9501-4697-8504-14592974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E9D-1FB7-4970-AFF0-7FA05AD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5FA-113C-4305-9305-B5351A31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CC7-BA6D-435C-BB5C-3EB5F22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524-3485-46A1-A9B6-268FCE1B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6E4-6EFD-428C-A764-D72AE654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F1B-ADEE-45D3-944D-0E7C831C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2AF-B5F9-4DB0-AEAB-24D66CB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319-F2A7-409B-8602-7F2A950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4E4-FA8F-4662-8A9A-AD246A1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14F-8E4B-4CE2-AEEB-E9D169D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3BF-3F8E-42B2-B32D-8E0E815A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T 2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the New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Labour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jobs available to work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job security to work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stsecondary education to life 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areer path of climbing ladder to spiral or lateral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ecialization to multi- sk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ierarchical to flatter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mployme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full time jobs; more contracts, temporary, part-time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team work; more responsibility and accountability at al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elf directed job seekers selling services on job to job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pay; softening in sa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 that employees will relocate; more global work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s/Con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enefits and drawback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Non-Standar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work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mobility, autonomy &amp; work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= condition of 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increase of women into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backs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upling of work from stable employment and steady income; fewer non-wag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insecurity; hard work + loyalty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 under or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mpetition rather than solidarity between workers; polarization of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and economic isolation for those working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of costs of technology, work facilities from firm to individual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Missing in New Ec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: High Tech Industr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licon Valley,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need to look at themselves as self employed, as vendors who come to this company to sell their skills…In AT&amp;T, jobs are being replaced by projects and fields of work, giving rise to a society that is increasingly jobless but not workless”  (Vice President of AT&amp;T, 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 Computer’s Employ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not interested in employing you for a lifetime; that’s not the way we are thinking about this. It’s a good opportunity for both us that is probably fini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estimate that 70% of Intel’s profits in 1997 will come from products that were not on the market as of January 1 of this year.” Chairman of Board, Intel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in Nonstandard Wo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nta Clara Califor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4 to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workers 12,000 – 3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-time workers 136,000 – 1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employed 45,000 – 76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conomy’: How Ne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ells: the present economic and social situation is a new age, rather than a continuation of industrial capit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: network society = development of industrial society leaving capitalism inta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ney:  network society = supercharged version of capitalism; extension of Tayl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tinuities &amp; discontinuities between network economy and its predecess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markets, unstable demand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e of change in skil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illing and skill upgrading t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inuous improvement, learning &amp; innovation to remain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eflexivity – workers examine and improve their own work processes to meet changing consumer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in IT 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in use of the internet and wireless commun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component of IT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manufacturing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tion of the IT supply chain has shifted IT manufacturing production to new locations, often overseas, where labor is relatively inexpe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s &amp; Restructu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ization has affected the nature of work performed in the economy as much as the quantity of employment.”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w and Langford, in Citizenship Studies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work and labour: flexibility vers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Employ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Flexible wo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standard forms of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ed worker’ – temp work = one of fastest growing categories of employment in North America &amp; Europe (Naomi Klein, 2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ylorism &amp; Scientific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capitalism &amp; rise of factory system associated with introduction in scientif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management = direction by engineers, factory planning, time and motion study, standardization, intensive division of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in factory production; control over workforce; ‘automatic perfection of routin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llection and surveil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 Self Em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s, consulting, free lanc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s, small business owners, independent crafts people, trad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man is out. Flexible woman is in.” (Castells,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gent employmen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 Temporal &amp; Spatial Dis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dislocation = work not confined to 8 hour day, Monday – Friday work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 time geared to flow of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fication of wor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dislocation = home work, call centres, telecomm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Standard Work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 End of Single Occupational Trajectory or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long term job stability in a single firm for entire 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on that in 40 year career, people will revamp skill sets 3 times and change jobs 11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workers – people who move from 1 task, contract or project to next developing a network of portable skills, contacts, exper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tandard Wor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 Lifelong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nstant up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flexibility and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echnological, skill and organizational compatibility with demands of new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programmable versus generic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9:00:46Z</dcterms:created>
  <dc:creator>Sheridan</dc:creator>
  <dc:description/>
  <dc:language>en-US</dc:language>
  <cp:lastModifiedBy>Sheridan</cp:lastModifiedBy>
  <dcterms:modified xsi:type="dcterms:W3CDTF">2009-01-27T18:16:48Z</dcterms:modified>
  <cp:revision>21</cp:revision>
  <dc:subject/>
  <dc:title>CCT 205</dc:title>
</cp:coreProperties>
</file>